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6D0F-9AC2-4AB2-9BFA-33F0F72C1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9484-2404-4D98-AC23-EE07EF07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39F1-9774-4EDF-BC8C-007001B83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B053-FF94-4EF2-8D56-334483A43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5724-3F56-4EE4-83C4-446F5212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6218-A6B8-489F-B2D0-BFC72416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B406-7BAC-4CBE-8FA1-60D5D7AB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B9DF-AACD-4AB7-92BD-84AEAB62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6A1A-2D0A-42CF-B423-78EF6F2B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873D-113D-4EB4-9CE9-F8F1AA73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A296-4FCB-4950-9C57-AF8DD905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1E9C-FD54-4D12-B7E9-0F428D94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61D0-11D1-4E11-A83D-32FC91E7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2095-3C1A-4ECC-A6F1-003B391D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7109-831C-49DA-B904-C4D24D7F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BB54-05EB-421F-8945-ADDCAE38B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0448-6F69-4907-8B45-9FB3EC006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F733-D194-44D5-A4AF-C3CF884A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E354-35BD-4BF9-848A-BA7EBF41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993A-4C3F-496E-98C6-DF845317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4AC7-1521-48FF-A8B5-23E18041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A18E-08CF-4666-A38F-41E7D663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A394-AB73-4A8F-8D53-A09D0C72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FEF3-AF38-4F38-82BB-2AE68C46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23DC-6E82-4655-B47F-D8C77ACDD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0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130C-8D78-4E6F-A79B-666C33CBC3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C’est à toi! – Level 2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itre 9 – Deuxième Ét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5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t d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 coup, je/j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 (rencontrer) un type bizarre dans la forê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 rencontr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 ____________ (être) très méchant e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ét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/j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 (avoir) peu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8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nd je/j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_____________ (arriver) chez ma grand-mèr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is arriv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9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le _________(être) un peu plus poilue que d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bitu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ét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10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dain, je/j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 (crier)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ère-grand, ce que vous avez de grandes dent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 cri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1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le _________ (avoir) 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énervé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1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nd tout d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 coup elle __________ (déchirer) sa robe e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échir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1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/j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_____________(voir) qu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 v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1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 (être) un grand méchant loup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ét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ts qui indiquent le PC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dain – sudde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t à coup – all of a sud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 moment où – just w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s d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d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su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f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15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(être) le type de la forê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ét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1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fin, je/j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_ (partir) en courant à toutes jamb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is par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ts qui indiquent l</a:t>
            </a:r>
            <a:r>
              <a:rPr b="1" lang="ja-JP" sz="4400" spc="-1" strike="noStrike">
                <a:solidFill>
                  <a:srgbClr val="ffffb7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mp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jours – al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bitude – usu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s les jours – all th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vent – of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 temps en temps – from time to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iquons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chez-vous de votre partenai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nez un tableau par personn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personne à gauche prend un feutre ve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personne à droite prend un feutre rou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personne verte est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SSÉ COMPOS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personne rouge est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MPARFA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iquons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écidez si la phrase demande le passé composé (vert) ou 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arfait (roug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ule la personne avec cette couleur peut répond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er, il ___________ (faire) très bea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s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rd, je/j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__ (décider) d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er chez ma grand-mè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 décid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/J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_____________ (vouloir) lui offrir un cadea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ul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is, je/j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_________ (commencer) ma rou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 commenc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Viviane Grebert</cp:lastModifiedBy>
  <dcterms:modified xsi:type="dcterms:W3CDTF">2012-05-03T21:58:40Z</dcterms:modified>
  <cp:revision>76</cp:revision>
  <dc:subject/>
  <dc:title>Allez, viens! – Level 2</dc:title>
</cp:coreProperties>
</file>